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AFF-A99F-4129-BB67-8A7417F8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B89-98FF-422B-B753-85C42843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946-C316-4DD6-B887-608E6CCD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BCE-ACFF-44AC-8837-2FB26C14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0D71-29FE-4C82-9C24-C5908D47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17ED-D0D7-405C-8B65-B8F9A2C2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FBE0-6FC0-450B-B47F-6B6A5BC3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216E-CB5C-438B-A9AC-7C84A93F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92DB-4CE7-4003-8262-0D55D1B2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9D38-1E66-448B-8E98-DC44B886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4F83-D0F5-43C9-A123-902F0E8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F17-64DD-4173-946E-3BC45423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E04E-F152-4832-92B4-14C79662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A6B2-CB7E-424F-A098-92FA26EE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69B1-0B88-4D6E-BCC4-F2467DDD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25A7-A29E-4B79-95E9-24C6C36C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91EA-F591-4F47-A5EE-B1F1D39E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EB5-B289-49FA-8723-1CF10082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0C91-3DF3-4E97-8575-F94F9066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8E9-27EC-426B-A882-40FC1503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601-3D74-4087-BAEE-FCD86951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964-6942-4BAA-877A-24C5498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510-E75F-4959-ABB6-3498084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DE9-47F3-4E62-82D8-945466E9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E8C4-00F8-48B3-BD1E-475360264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746-4A81-44DA-83C8-5D3AD9ECF6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62160" y="76176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cc99ff"/>
                </a:solidFill>
                <a:latin typeface="Monotype Corsiva"/>
              </a:rPr>
              <a:t>Current situ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Pol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When people litter our streets the rain water makes the litter flow into the gutter and into our storm water drains which flow into our river and pollute i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Ex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Drawing too much water in dry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Water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Arial Black"/>
              </a:rPr>
              <a:t>Not protecting and restoring water level flows which affects plants and animal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2143080" y="142920"/>
            <a:ext cx="464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 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7" name="Picture 11" descr="IMG_2088"/>
          <p:cNvPicPr/>
          <p:nvPr/>
        </p:nvPicPr>
        <p:blipFill>
          <a:blip r:embed="rId1"/>
          <a:srcRect l="0" t="0" r="11635" b="11421"/>
          <a:stretch/>
        </p:blipFill>
        <p:spPr>
          <a:xfrm>
            <a:off x="285840" y="1071720"/>
            <a:ext cx="3071880" cy="28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MG_2092.JPG"/>
          <p:cNvPicPr/>
          <p:nvPr/>
        </p:nvPicPr>
        <p:blipFill>
          <a:blip r:embed="rId2"/>
          <a:srcRect l="16406" t="33985" r="57033" b="39062"/>
          <a:stretch/>
        </p:blipFill>
        <p:spPr>
          <a:xfrm>
            <a:off x="285840" y="4214880"/>
            <a:ext cx="3065400" cy="207324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8" descr=""/>
          <p:cNvPicPr/>
          <p:nvPr/>
        </p:nvPicPr>
        <p:blipFill>
          <a:blip r:embed="rId3"/>
          <a:stretch/>
        </p:blipFill>
        <p:spPr>
          <a:xfrm>
            <a:off x="1036800" y="-109440"/>
            <a:ext cx="69735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 Placeholder 3" descr=""/>
          <p:cNvPicPr/>
          <p:nvPr/>
        </p:nvPicPr>
        <p:blipFill>
          <a:blip r:embed="rId1"/>
          <a:stretch/>
        </p:blipFill>
        <p:spPr>
          <a:xfrm>
            <a:off x="4638600" y="1914480"/>
            <a:ext cx="3938760" cy="416232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8" descr=""/>
          <p:cNvPicPr/>
          <p:nvPr/>
        </p:nvPicPr>
        <p:blipFill>
          <a:blip r:embed="rId2"/>
          <a:stretch/>
        </p:blipFill>
        <p:spPr>
          <a:xfrm>
            <a:off x="1122480" y="-55440"/>
            <a:ext cx="6173640" cy="11779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1"/>
          <p:cNvSpPr/>
          <p:nvPr/>
        </p:nvSpPr>
        <p:spPr>
          <a:xfrm>
            <a:off x="4857840" y="1071720"/>
            <a:ext cx="350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ff"/>
                </a:solidFill>
                <a:latin typeface="Monotype Corsiva"/>
              </a:rPr>
              <a:t>Desired Outcome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3" name="ClipArt Placeholder 13" descr="IMG_1885.JPG"/>
          <p:cNvPicPr/>
          <p:nvPr/>
        </p:nvPicPr>
        <p:blipFill>
          <a:blip r:embed="rId3"/>
          <a:stretch/>
        </p:blipFill>
        <p:spPr>
          <a:xfrm>
            <a:off x="0" y="1341360"/>
            <a:ext cx="43099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We can use gross pollutant traps.  It is a net that traps rubbish before it can flow into rivers. There should be no drawing water from the river in dry tim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op people littering our streets by making them pay a penal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Educate people about looking after our rive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Rectangle 8" descr=""/>
          <p:cNvPicPr/>
          <p:nvPr/>
        </p:nvPicPr>
        <p:blipFill>
          <a:blip r:embed="rId1"/>
          <a:stretch/>
        </p:blipFill>
        <p:spPr>
          <a:xfrm>
            <a:off x="1133640" y="66600"/>
            <a:ext cx="6181560" cy="1274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4932360" y="126828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284720" y="1197000"/>
            <a:ext cx="4174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140360" y="1197000"/>
            <a:ext cx="47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cc99ff"/>
                </a:solidFill>
                <a:latin typeface="Monotype Corsiva"/>
              </a:rPr>
              <a:t>Proposed action and guidelin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10" descr=""/>
          <p:cNvPicPr/>
          <p:nvPr/>
        </p:nvPicPr>
        <p:blipFill>
          <a:blip r:embed="rId2"/>
          <a:stretch/>
        </p:blipFill>
        <p:spPr>
          <a:xfrm>
            <a:off x="785880" y="857160"/>
            <a:ext cx="3071880" cy="311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3"/>
          <a:stretch/>
        </p:blipFill>
        <p:spPr>
          <a:xfrm>
            <a:off x="500040" y="4143240"/>
            <a:ext cx="360684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6:46:34Z</dcterms:created>
  <dc:creator> </dc:creator>
  <dc:description/>
  <dc:language>en-US</dc:language>
  <cp:lastModifiedBy>tm</cp:lastModifiedBy>
  <dcterms:modified xsi:type="dcterms:W3CDTF">2009-04-08T21:53:33Z</dcterms:modified>
  <cp:revision>18</cp:revision>
  <dc:subject/>
  <dc:title>PowerPoint Presentation</dc:title>
</cp:coreProperties>
</file>